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64CD-5C6E-4CDF-8CAD-B47965188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1F44-EFF1-47AA-A05C-2EBE4DE1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68A7-24FC-454B-BB9E-224B201C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BA2A-E16C-47CD-8CF9-6C7B18C38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0561-F05F-40CA-ABFA-5AD0B9831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B1C5-7414-41A8-8D60-3D6D6440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7A62-1F62-4441-A61F-D28496C8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17D0-5237-4B6E-A34E-14334F0F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D3AE-10F3-40F7-AADF-1C61D31D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5DE-B85B-4241-BF49-2314107A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4A65-9045-4CB9-ACDB-7398BFB9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0DB9-C1A3-470D-B003-352E42A3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9E7E-FEB0-4680-8C64-9B159E913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82B-1862-4529-AE88-8663A8F3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F6C-A48E-4580-8075-9D5407A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4D8-7363-4F42-BADE-BFB009C8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8BE-2661-44EA-B875-8AB9756F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0F0-6D5A-411A-9692-6FC94985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7D7-990A-4D76-908E-F2AEF23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FEE-43CF-4D9D-935C-C4E24885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202-5E70-4364-ADD5-82A7E3A3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9F4-9C2F-4670-8826-EF1334EA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5B2E-AC26-40A1-A129-8E448906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0C2-E6AD-486F-BE2A-B17D412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A2C-DCD1-467C-85A9-37FBC46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C36-A5C8-41BA-80B2-D5B67CF7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lait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4449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391520" y="6324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10280" cy="500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’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p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81680" cy="4461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754596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a cou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4575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etits 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3803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746964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’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01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622280" y="63244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conc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403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762228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 mango et la papay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867280" cy="4421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omic Sans MS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 p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95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7545960" y="62485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-1.2-P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22:07:27Z</dcterms:created>
  <dc:creator>Cassandra Celaya</dc:creator>
  <dc:description/>
  <dc:language>en-US</dc:language>
  <cp:lastModifiedBy>Administrator</cp:lastModifiedBy>
  <dcterms:modified xsi:type="dcterms:W3CDTF">2010-06-28T18:58:00Z</dcterms:modified>
  <cp:revision>8</cp:revision>
  <dc:subject/>
  <dc:title>la lechuga</dc:title>
</cp:coreProperties>
</file>